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A516-3578-4099-8695-1C8225719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64E0-8790-4FAA-BED2-0230F1873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9C3C-00F6-4CC4-9CF2-89DB4CF0B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AFD9-83DE-4618-900A-5157E0322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D71F-48CD-47D7-A991-92B7ED205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6563-C577-4EF9-82F9-AE9356A5C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F09D-2CE4-46DC-AF67-83689D922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8A42-852B-4F64-873F-207FDFB1B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F76D-D721-4CAB-89C4-E137F24E9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98FB-966C-4653-A7A4-C0F89037E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E3C5-6603-422F-8DA5-FF29C83AA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4977-9A51-478D-A399-4AC370844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DA753-BBE3-4A99-A2DF-527409928D4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61560" y="1981080"/>
            <a:ext cx="7166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How Can Diseas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Be Misclassified 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61976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69343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0" y="1447920"/>
            <a:ext cx="3962520" cy="4114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33520" y="144792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019920" y="2209680"/>
            <a:ext cx="30456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010280" y="2209680"/>
            <a:ext cx="30492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19920" y="4724280"/>
            <a:ext cx="30456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162920" y="4724280"/>
            <a:ext cx="30456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990720"/>
            <a:ext cx="792468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sclassifying Disease Stat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4674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4678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6858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38080" y="2822400"/>
            <a:ext cx="7543800" cy="3273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838080" y="533520"/>
            <a:ext cx="75438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04920" y="2898720"/>
            <a:ext cx="6933960" cy="32734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04920" y="609480"/>
            <a:ext cx="7086600" cy="2286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7238880" y="609480"/>
            <a:ext cx="1600200" cy="5562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6313320" y="3581280"/>
            <a:ext cx="522360" cy="3812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7162920" y="3962520"/>
            <a:ext cx="369720" cy="4158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7315200" y="4572000"/>
            <a:ext cx="1828800" cy="5335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7"/>
          <a:stretch/>
        </p:blipFill>
        <p:spPr>
          <a:xfrm>
            <a:off x="1828800" y="5486400"/>
            <a:ext cx="1752480" cy="5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avid g kleinbaum</cp:lastModifiedBy>
  <dcterms:modified xsi:type="dcterms:W3CDTF">2003-11-09T13:43:41Z</dcterms:modified>
  <cp:revision>216</cp:revision>
  <dc:subject/>
  <dc:title>Slide 1</dc:title>
</cp:coreProperties>
</file>